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3F5-9C49-42D1-8232-5CBB69E3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B74-491A-4379-8529-D4BA14E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A06-6558-4099-B14A-3F41202E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BCE-539F-419B-9B16-8D72B582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791-DAE3-4E00-A968-A1CBDC90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4F3-E08B-4E00-A5FA-1C5228E3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263-8DD3-435D-954F-D2907239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E09-2179-4EE2-B54B-FDFA8E4E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19C-895A-4006-8986-A9DBC474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E8E-3882-4330-86E4-CA7EC3BF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DC1-AA39-4B2B-876B-170F2D0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79C-066F-402F-A1AC-A06429DD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9F12-8ED5-4530-8089-8258ADE93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06560" y="12682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«Без сомнения, все наше знание начинается с опыта.»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И .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9640" y="1416240"/>
            <a:ext cx="611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 в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в бен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Что произойдёт с куском железа, если его опустить в рту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А если в ртуть поместить золо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Покажите поведение пластилина в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69228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50"/>
                </a:solidFill>
                <a:latin typeface="Times New Roman"/>
              </a:rPr>
              <a:t>Используйте таблицы стр. 50 -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476280"/>
            <a:ext cx="60487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§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50, ответить на вопросы, упр. 25 (4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Сделать подборку загадок, стихов или афоризмов по теме «Сила Архимеда. Плавание тел» (с рисунк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Подготовить сообщение о плавании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15980" t="345" r="6249" b="0"/>
          <a:stretch/>
        </p:blipFill>
        <p:spPr>
          <a:xfrm>
            <a:off x="7020000" y="4941720"/>
            <a:ext cx="1585800" cy="155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08216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Физка 7 кл, М., Дрофа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плавающих тел http://ebook-teacher.blogspot.ru/2012/03/blog-post_2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fizika.ru/proverka/index.php?mode=proverjalka&amp;theme=02&amp;id=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для оформления слайдов http://allforchildren.ru/pictures/showimg/school22/school2208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5640" y="549360"/>
            <a:ext cx="65516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1. Сила тяжести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2. Сила тяжести направлен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3.  Сила Архимеда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981000"/>
            <a:ext cx="59770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4.  Сила Архимеда направл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153e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Определите направл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равнодействующей сил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и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А.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Б.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В. Нет правильного отве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454880" y="3071880"/>
            <a:ext cx="785880" cy="7858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740720" y="2571840"/>
            <a:ext cx="214200" cy="660240"/>
          </a:xfrm>
          <a:prstGeom prst="upArrow">
            <a:avLst>
              <a:gd name="adj1" fmla="val 50000"/>
              <a:gd name="adj2" fmla="val 1825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7740720" y="3357720"/>
            <a:ext cx="214200" cy="1193760"/>
          </a:xfrm>
          <a:prstGeom prst="downArrow">
            <a:avLst>
              <a:gd name="adj1" fmla="val 50000"/>
              <a:gd name="adj2" fmla="val 33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2349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65000" y="429264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052640"/>
            <a:ext cx="6840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амопровер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1-А, 2 – Б, 3 –В, 4 – А, 5 – Б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ставить отметку: 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(лист самооценки)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«5» - все ответы верны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«4» - одна ошибка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«3» - две ошибки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«2» - более двух ошибок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3" t="0" r="36258" b="22165"/>
          <a:stretch/>
        </p:blipFill>
        <p:spPr>
          <a:xfrm>
            <a:off x="5292720" y="350028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16026" t="6414" r="17320" b="4490"/>
          <a:stretch/>
        </p:blipFill>
        <p:spPr>
          <a:xfrm>
            <a:off x="1763640" y="260280"/>
            <a:ext cx="3600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771640" y="119700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547640" y="2421000"/>
            <a:ext cx="698508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4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: Изучить условия плаван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484280"/>
            <a:ext cx="69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1, 2, 3, 4, 5 – все умеем мы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Раз! Подняться, потя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а!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Шесть – за парту тих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547640" y="256536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211640" y="2637000"/>
            <a:ext cx="18828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588000" y="2637000"/>
            <a:ext cx="1946520" cy="221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908000" y="18900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учение условий плавания т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3280" y="5157720"/>
            <a:ext cx="63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Вывод по результатам работы сделать  с использованием учебника стр. 120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0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50"/>
                </a:solidFill>
                <a:latin typeface="Times New Roman"/>
              </a:rPr>
              <a:t>Цель работы: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выяснить 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835280" y="476280"/>
            <a:ext cx="174132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356000" y="476280"/>
            <a:ext cx="17607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732720" y="476280"/>
            <a:ext cx="18302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924280"/>
            <a:ext cx="77770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тон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lt;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яж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ж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&lt;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плава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всплывает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Натка</cp:lastModifiedBy>
  <dcterms:modified xsi:type="dcterms:W3CDTF">2013-03-27T14:08:25Z</dcterms:modified>
  <cp:revision>15</cp:revision>
  <dc:subject/>
  <dc:title>Слайд 1</dc:title>
</cp:coreProperties>
</file>